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15A-3674-44AA-9E49-27753F4D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914-D443-4A09-B06A-D0D15BE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965-8E00-43F4-9794-B620A9C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345-8AD3-47CE-9C0B-D81D3DC5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6B25-19B5-4E12-995D-BF8889CB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A88-A668-466A-BCD4-7D920F8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36A5-F0C3-46A3-927C-4A8DFF80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54FD-8340-43D0-8267-9840011F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2928-1CF0-478B-A835-2ED3D1D9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C596-156C-434D-BBD4-E7007967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BD30-46CD-40C0-A660-DAAF736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89A-091B-4B2F-B701-9330FF87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680-F60F-4972-8199-4CEC75F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6947-EFF9-4F8E-9E2B-CEE1CD0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2FD0-E18C-4BFD-9334-AA58B6EF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E28-2D8F-4A90-8545-E36C1AC1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4787-20F9-4AC7-BA00-3C590C86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30CC-25A5-41F8-BEF2-8AA28042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56841-F97E-420C-96DE-0F699900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2ADA-95B5-4838-9D00-12B155E9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9535-2E66-461B-A31B-EDF4D333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B9C03-0C50-4936-BE55-C4A4D1FC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340-BDE6-48F2-B82B-538C4241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116C3-7922-4575-AB93-7DEF1BEE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82B0-420F-424D-AE67-02061D4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DC02-B130-41A8-B9A4-C1D83B4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703E-D8B9-4BB9-94AD-AAA708FD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8E76-A820-4557-A8BA-385BBD6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DFD8-644E-430C-B66F-065D520F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A712-C7AC-4552-922C-BC80B30D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6952-6919-4A52-AB81-0454CFD6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AD9D-872D-4C3C-80C9-403DC9E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73D1D-4A7A-4C0A-BCF4-8763DF1E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D6BA-7A11-4D3E-AA99-D4C342D1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1047C-DEC7-4EC5-B4F0-70B6AA1D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6DB9-8A43-4599-B1FB-EBB96209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10997-F38F-4460-85E3-709DBB42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0F568-B842-4CED-92BA-10D66D6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5E74-6DF8-4D00-82DD-8BFA836C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43642-309B-46A6-BBB0-A884A87D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356C-DEC6-4042-993B-52F43C4E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15BC-2C1A-4D41-BCBF-F807DA47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5DF84-BB2F-4095-ADD1-8B0C9B42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374ED-26E1-4D52-A0CC-E3A07F83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B660-D848-4955-8788-EC87D06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835A-6794-433C-A069-96942118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685FF-86EC-4A1E-AAB6-D3245A23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EDDAD-6EFD-49CD-B47D-FABF4A9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B1289-5758-4A9C-9C28-A02D062D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FA342-A93C-4587-84C6-2C3038A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ED7D-0E2F-4905-8FF6-E9E2676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DCB26-18FD-473C-9B0B-429553D2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AE842-696F-4F60-B2C0-95E86EE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6AE7-7A3D-42AF-8355-3BA5DF4E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51F0-0001-4DBD-B7D4-63A81456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94F-48AE-41B1-855D-9717F065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C161-AA19-4F8C-93C2-176BB490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87E8B-E9A8-4135-A5C8-F4667A64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B3E78-D47F-47C4-861C-8321B15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14F34-6F79-4484-9984-F2233475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BA4AE-58B9-4A51-88FA-3627641E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4530-233A-477F-85FC-D627B33B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05F1F-5350-4C79-B0EB-6B1FA613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E9209-E302-4723-A7AC-F9D9A15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D247-C675-45EB-A095-C10D94C1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937B4-22A0-4A51-B5D0-6DA5C04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F1C-FF4D-400C-A84D-F92A464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6C32C-23C0-48B1-A8A6-0E3B15CD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C3CE4-51F7-4BC9-8DB1-1897DE83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5C71D-7E9F-4EF1-960B-E1373A5B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6FF8F-7A71-41AC-8243-8F108843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7B72A-6F0E-47C7-B566-9F9E8D1D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9789-8EF5-4635-99E1-D46A4F25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EFABC-DE15-485C-98FB-B11210D2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935B-F7C1-4CB8-B658-A6A764AD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AD78A-D37E-4008-90C1-D5BC95FD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5FC19-CF57-4174-AEF8-9C146D74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CF4-BFCE-4BD7-855D-99A6E24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E6EC9-A315-4A76-A8B0-902D28F1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5BF03-E36D-4962-B1B1-30CDF85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458D-3849-4597-A1A2-0B689DF9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4084-1CD9-4692-A79E-7B75DED1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0C89D-B35D-4B5E-A545-E509C407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97AB4-958C-4BE1-BF8B-4B83DC74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321BE-DD70-4C8C-B014-A020874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AACD9-484E-4721-83D2-6DB0C5ED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8EA1-0461-4E1E-8A82-3D5E3B27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EB26-C934-46FE-B6EA-2C081C8A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854-E8FB-4DC0-8368-9C703687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00511-4B16-4AC4-9FB6-E9D8F66C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F0E39-3529-4766-81B3-5888D284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5BA4-BABA-4A21-93BA-BC6B9562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53386-AE73-4C02-8A46-F5BA4C92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8DB0B-9054-475C-8E64-B1B756F4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EAFF5-B323-4080-9E1C-A1CDE3CD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36111-256F-4F83-84CF-0F4806CA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4602-128C-4050-890F-712AED282C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18A7-8481-4FEB-BADB-821D00A4BE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B93E-A68D-42F5-9C77-9F7E4F9FD2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1816-B3CA-4D0B-8EE5-62B1CC55AE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3C8B-2F10-41E1-956B-8FE9E6351F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C80-6795-4BFE-A2C3-CF31DBB3D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1662-9E21-4238-9CE0-151C5AEAC8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58A7-F6DC-4518-BFA5-77F6987522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lecules in air push in all directions therefore it does NOT crush 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ir pressure can change from day to d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nser substances have more mass per unit volume than less dense substances so denser air exerts more pressure than less dense ai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rome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wo kind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ercury barometer consists of glass tube open at the bottom end and partially filled with mercury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Aneroid barometer has an airtight metal chamber and is most commonly used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its of air pressure are “inches of mercury” and millib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0 inches of mercury is approximately equal to 1,016 milliba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ir Pressure and Altitu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ir Pressure decreases as altitude incre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Atmos_Altitude_sx5225a3"/>
          <p:cNvPicPr/>
          <p:nvPr/>
        </p:nvPicPr>
        <p:blipFill>
          <a:blip r:embed="rId2"/>
          <a:stretch/>
        </p:blipFill>
        <p:spPr>
          <a:xfrm>
            <a:off x="1066680" y="2514600"/>
            <a:ext cx="68677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titude and Dens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of air decreases as altitude increases. Air at sea level has more gas molecules in each cubic meter than air at the top of a mounta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6" descr="Atmos_Altitude-2_sx5620a3"/>
          <p:cNvPicPr/>
          <p:nvPr/>
        </p:nvPicPr>
        <p:blipFill>
          <a:blip r:embed="rId1"/>
          <a:stretch/>
        </p:blipFill>
        <p:spPr>
          <a:xfrm>
            <a:off x="1433520" y="2209680"/>
            <a:ext cx="627696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3" descr=""/>
          <p:cNvPicPr/>
          <p:nvPr/>
        </p:nvPicPr>
        <p:blipFill>
          <a:blip r:embed="rId1"/>
          <a:stretch/>
        </p:blipFill>
        <p:spPr>
          <a:xfrm>
            <a:off x="457200" y="1749600"/>
            <a:ext cx="8442360" cy="1841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50292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 Main layers classified according to changes in temp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op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rat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es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rmosp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Includes the ionosphere and exospher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now Figure 9 on pg. 52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Atmos_Layers_sx5824a3"/>
          <p:cNvPicPr/>
          <p:nvPr/>
        </p:nvPicPr>
        <p:blipFill>
          <a:blip r:embed="rId2"/>
          <a:stretch/>
        </p:blipFill>
        <p:spPr>
          <a:xfrm>
            <a:off x="5435640" y="1752480"/>
            <a:ext cx="3708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est layer of the atmo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ather occurs 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es 9-16km from the surface of the ear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llowest la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ains almost all of the mass of the atmo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 altitude increases, temperature decre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t the top, the temp stays at about -60degrees Celsius and water forms thin, feathery clouds of 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nds from the top of the troposphere to about 50km above earth’s surf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tains the ozone la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lower part is cold, about -60 degrees Celsius and the upper part is warmer because of the ozone la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zone layer gets heated from the su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ddle layer of the atmo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gins 50km above earth’s surface and ends at an altitude of 80km above earth’s surf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ter mesosphere is about -90degrees Celsi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tects earth’s surface from being hit by most meteoro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termost layer of earth’s atmosphe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nds 80km above earth’s surface and goes outward into space, no definite outer lim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remely hot up to 1800 degrees Celsiu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cause sunlight strikes the thermosphere first and nitrogen and oxygen molecules convert sun’s energy into hea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uld not feel hot because there are not very many molecules in this lay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ir ha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refore air has density and press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nsity is the amount of mass in a given volu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DENSITY=MASS/VOLUME (kg/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SS= DENSITY x VOLUME (kg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OLUME= MASS/DENSITY (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f there are more molecules in a given volume, the density is greater. Less molecules in a given volume, the density is l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vided into two layer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osphere- the outer lay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xtend from about 400km outward thousands of kilometer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onosphere- the lower lay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80km above the surface and extends about 400km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nergy from sun cause gas molecules to become electrically charged particles called 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adio waves bounce off ions- make brilliant light displays called Auror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Spiderman has a mass of 90kg and has a volume of 30 liters, what is his dens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nsity= mass/volu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nsity= 90kg/30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nsity= 3kg/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the same day and same time at Mount Everest, the air has a density of 75kg/L in a volume of 5 liters. What is the mass of the ai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ss=Density x Volum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= (75kg)(5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= 375 k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the same day and same time in Miami, the air has a density of 130 kg/L in a volume of 5 liters. What is the mass of the ai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=DV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= (130kg/L)(5 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= 650 k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s. Zeidman’s brain has a mass of 28 kg and takes up a volume of 7 liters. What is the density of Ms. Zeidman’s brai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=M/V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=28 kg/7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= 4kg/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density of Ms. Arangio’s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our class is 12,500 kg/L and the mass is 200,000 kg. What is the volume of the clas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=M/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= 200,000kg/12,500 kg/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=16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table has a density of 750 kg/L and a mass of 100 kg. What is the volume of your tabl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=M/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=100kg/750kg/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=.13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essure is the force pushing on an area or surfac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Weight of the atmosphere exerts a force on surface and air pressure is the result of the weight of air pushing down on an are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The column of air extends through the entire atmosphe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Atmos_AirPressure_sx7697a3"/>
          <p:cNvPicPr/>
          <p:nvPr/>
        </p:nvPicPr>
        <p:blipFill>
          <a:blip r:embed="rId2"/>
          <a:stretch/>
        </p:blipFill>
        <p:spPr>
          <a:xfrm>
            <a:off x="4648320" y="990720"/>
            <a:ext cx="404784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1:21:38Z</dcterms:created>
  <dc:creator>Falcon School District 49</dc:creator>
  <dc:description/>
  <dc:language>en-US</dc:language>
  <cp:lastModifiedBy>Falcon School District 49</cp:lastModifiedBy>
  <dcterms:modified xsi:type="dcterms:W3CDTF">2009-11-09T23:10:46Z</dcterms:modified>
  <cp:revision>6</cp:revision>
  <dc:subject/>
  <dc:title>Slide 1</dc:title>
</cp:coreProperties>
</file>